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A0C-A592-42CF-849B-0F2F2ABB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DC6-5FBF-4790-A2CD-D7AD76F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3D1-7FD2-46A5-9219-34AA38CA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F14-E22F-49F3-8313-79B21F37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048-2A18-419A-BAEC-80C70D2B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AE0-1151-43DC-8B0B-2404224E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8BE-AF3C-4681-951D-34EB71C8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6F5-317D-443D-9665-E44F0539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112-1074-458B-9E3E-5F65FD5E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9BF-33AB-4025-B82D-2E8BDD8D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407-60E9-4416-B994-B23FD377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5D7-E236-47EE-ACDF-19709BBF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6315-CBCB-4C97-8B81-FA785F9F7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7 из 206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55440" y="-115920"/>
            <a:ext cx="90392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390 из 206429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04360" y="192888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78992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93300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290560" y="25002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433560" y="30718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4-tub-ru.yandex.net/i?id=162494125-48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Равнобедренный треугольник 2"/>
          <p:cNvSpPr/>
          <p:nvPr/>
        </p:nvSpPr>
        <p:spPr>
          <a:xfrm>
            <a:off x="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14300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214308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Равнобедренный треугольник 5"/>
          <p:cNvSpPr/>
          <p:nvPr/>
        </p:nvSpPr>
        <p:spPr>
          <a:xfrm>
            <a:off x="3071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21488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521496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8"/>
          <p:cNvSpPr/>
          <p:nvPr/>
        </p:nvSpPr>
        <p:spPr>
          <a:xfrm>
            <a:off x="607212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21512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8215200" y="785880"/>
            <a:ext cx="928800" cy="919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932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43288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218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479052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504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29064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7577640" y="2500200"/>
            <a:ext cx="7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745200" y="407196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инутка чистописа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29:23Z</dcterms:created>
  <dc:creator>Админ</dc:creator>
  <dc:description/>
  <dc:language>en-US</dc:language>
  <cp:lastModifiedBy>Админ</cp:lastModifiedBy>
  <dcterms:modified xsi:type="dcterms:W3CDTF">2012-02-07T18:25:11Z</dcterms:modified>
  <cp:revision>6</cp:revision>
  <dc:subject/>
  <dc:title>Слайд 1</dc:title>
</cp:coreProperties>
</file>